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CCDEF85-F158-48B7-BACD-9274A5954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5E5DF2-1765-46A7-8FF5-C27845101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
          <p:cNvSpPr/>
          <p:nvPr/>
        </p:nvSpPr>
        <p:spPr>
          <a:xfrm>
            <a:off x="1146240" y="696960"/>
            <a:ext cx="4570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body"/>
          </p:nvPr>
        </p:nvSpPr>
        <p:spPr>
          <a:xfrm>
            <a:off x="685800" y="4416480"/>
            <a:ext cx="54878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that we have talked about of a few things that you should not do when attempting to secure an application, we are going to spend the remainder of this chapter talking about things that you should do to secure an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step in figuring how when to spend your time securing your application is to do some threat modeling.  The goal of building a threat model is to determine what the most significant threats to your application are.  That is, you want to spend time thinking about what the bad guy is most interested in doing when it comes to your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if you are running a web site that is responsible for making political statements, or that represents a political figure, such as the ACLU web site or the White House web site, the bad guy is probably most interested in defacing your site in the hopes of promoting his or own political statement.  On the other hand, if you are running the web site of a financial institution or an electronic commerce site, the bad guy is probably most interested in stealing valuable account or credit card numbers from your database.  This is different than the case of the political web site, because it is probably OK for the information in the database that runs the political web site to be public, and we don’t mind if people get access to it so long as they cannot change/modify it.  In the case of the financially-oriented web site, we DO mind if the attacker gets access to it.  If the attacker is able to change or delete the account and credit card numbers but not read this information, this is less severe since we could always restore the information from a backup.  (The customers of the web site might be slightly inconvenienced, but at least they won’t have to have their account and/or credit card numbers chan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 commerce sites are also faced with denial-of-service attacks as a highly significant threat.  A denial-of-service attack is one in which the attacker is able to figure out a way to send so much data traffic to the web site, that the web site spends all its time servicing the requests from the attacker, and the requests of legitimate users cannot be answered.  A denial-of-service attack is a significant threat for an electronic commerce web site because valuable revenue will be lost if the web site is not available to take orders from users.  While a political web site might “lose face” if it suffers from a denial-of-service attack, there probably is not a direct loss in revenue that can be associated with the attack (unless, of course, the web site takes donations on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military institutions are concerned with the leakage of classified information as their most significant thre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ssessing the security requirements for a new application, it is important to build a threat model.  The types of attacks in the threat model will most likely guide the design of software that is used to secure the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building a system that needs to be secure, it is important to think about security up-front as part of its design; that is, security should be designed in to the system from the start.  Systems that are often built that meet a set of functionality and performance criteria, and software developers then attempt to make these systems secure only as an afterthought.  That is the wrong way to design a system.  Experience has shown that it is very hard to “add” on security onto a system only after it has been develop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nsider the design of the Windows 98 operating system (OS).  Microsoft’s highest priority goals were to attempt to pack as much functionality into the OS, and deploy the software on time.  Providing security and an access control mechanism was not among the primary design criteria as evidenced by many of the security holes in the product.  For instance, the OS includes a feature that allows a PC to boot up into a “safe” or diagnostic mode without the entry of a username or password at all.  A user may simply hit the F8 key as the boot sequence starts to have the PC boot up in this diagnostic mode, thereby bypassing the required entry of a username and password.  The problem with this is that an attacker that gains physical access to the system could access the contents of the user’s entire disk by pressing the F8 key during the boot sequ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design of this feature that would have kept security in mind from the start would be to require the user to enter a username and password to enter the diagnostic mode.  The only user that should indeed be authorized to boot up the PC in diagnostic mode and be given full access to the disk, etc. is the system administr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8 on Windows boot-up bypasses password entry and puts computer into diagnostic mo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 no accountability – free to send packets, and denial-of-service attacks occur because bad guys can send out many packets at no co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added as afterthought usually results in a “turtle” architecture: hard outer shell, but very soft ins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concrete, measurable security goal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certain users should be authorized to use this featu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eature should be available 99.9% of the time (i.e. dial-tone) even under a denial-of-service att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formation output by this feature should be encryp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log or audit trail should be kept every time this feature is 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2: .Net Server Ship Date delayed due to security vulnerabilities.  Almost never happended bfore.  Only could happen becasuse security was defined as part of the servers set of fea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often requires architectural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that “add-on” security later are like turtles.  They might employ some type of hard shell that they add on the top of the system to defend it, but if an attacker can find a way around the shell, the system will be easy to att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ding security later on” may require disabling newer features anyway, so why build features at all unless you build them secure to begin wi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an application later on may require significant changes (not using certain library functions such as strcpy), and changing things too late in the development of the application may introduce 1) risk, and 2) pressure to get the changes done before the dead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now, we have talked about how to pursue designing security for our systems.  We must, however, acknowledge that security comes at a price to users.  Typically, the more security technology that is deployed, the less convenient using a system becomes for users.  For example, if we require our users to have passwords, and we allow our users to use any password they would like, then this might lead to security vulnerabilities since some users might choose passwords that are very easy to guess.  On the other hand, if we assign complicated, hard-to-guess passwords to users, then our system will be more secure, but it will also be less convenient for users.  Users may forget their passwords that we assig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between security and convenience is not one way either.  If the passwords that we assign are complicated enough, users might decide to write these passwords down (even if we tell them not to).  Users might even write down their passwords in a place that a hacker might be able to access.  Passwords written down in places that a hacker might find them could lead to an overall less secure system than if they were never written down anywhere at all.  What this shows is that if a security policy is too inconvenient, users may do unexpected things (or just not listen to us), and we will end up with an overall insecure system any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more security is usually more inconvenient, but more inconvenient does not mean more secure.  A good security policy or technology will increase both security and convenience, but it is typically hard to achieve both.  For example, if we were to allow users to choose their own passwords, but somehow “check” that their password is not “easy to guess,” and ask them to choose another one if it doesn’t satisfy our check, we will be achieving better security at the cost of hopefully only a minor in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stronger passwords means that more users will have trouble selec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examples of technologies that increase both convenience and secur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covered a number of high-level requirements that more secure systems strive to provide.  In this chapter, we will discuss a number of design principles that security architects typically keep in mind when building secure syste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E728429-E308-42D1-96BC-EA10E7581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37A6E48-43E1-4B81-8983-F3E3D6447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6FE532-F5D7-4AC6-88F9-DB945C4BD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E578A36-4AC4-4AE6-AB0C-EF4E9E250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w we walk through the code…</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Main() creates a SimpleWebServer object and calls its run() method.  The run() method is just an infinite loop that waits for a connection from a client, and then attempts to process the requ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9E3D11-D261-4BA5-96DB-6F468904E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Here is the SimpleWebServer object.  First we initialize a variable that holds the port number the web server should listen to for connections from clients.</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n we initialize a ServerSocket.  </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Socket: The method of directing data to the appropriate application in a TCP/IP network. The combination of the IP address of the station and a port number make up a socket. </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ink of this like an electrical socket.  A web server and a web client both have a “virtual” power strip with many sockets on it.  A web client can talk to a server by selecting one of its sockets, and then selecting a server socket and plugging a virtual wire into each end.</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 run() method has an infinite loop waiting for a connection from a client.  The call to ServerSocket accept() returns a socket object that corresponds to a unique socket on the server.  This allows the server to communicate with the clien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nce the communication is established, the client’s request is process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2F6497-594D-47C3-93B6-8B4957D91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rocessRequest() takes the client socket as input.  It uses this socket to create BufferedReader and OutputStreamWriter objects.  Once these communication objects are created, the method attempts to read a line of input from the client using the BufferedReader.  We expect this line of input to be an HTTP GET request (as discussed earli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2CD4FA-6A8E-49D3-AEC3-B8DF64346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 StringTokenizer object is used to break up the request into its constituent parts: GET, the pathname to the file the client would like to download.</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If the command is a “GET”, we call the serveFile() method, else we issue an error.  Then we close the connection to the cli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9DC3D11-115E-441F-9080-B0E45D30C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 first “if” removes the initial slash at the beginning of the pathname, and the second “if” sets the file to be downloaded = index.html, if another file was not specif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820145-9A4C-46C1-97D9-203FA15A2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w the method attempts to open the file and read it into the web server’s memory.  If the FileReader object is unable to open the file and read a byte from it, it issues an error mess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648AE3-2FD6-4203-A5FD-ECAF307BC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If the file was successfully opened, send the HTTP/1.0 200 OK message and then the method enters a while loop that reads bytes from the file and appends them to a StringBuffer, until the end of the file is reached.  Then this StringBuffer is sent to the cli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CB20A3-46F9-4E81-941F-A8F298D35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race the code, assuming a CR sent from the client.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We read the line of input from the client.  When we tokenize, the line: </a:t>
            </a:r>
            <a:r>
              <a:rPr b="0" lang="en-GB" sz="900" spc="-1" strike="noStrike">
                <a:solidFill>
                  <a:srgbClr val="000000"/>
                </a:solidFill>
                <a:latin typeface="Courier New"/>
              </a:rPr>
              <a:t>command = st.nextToken(); results in an exception.  Control is returned to run() which does not handle the exception; then control is returned to main() which does not handle the exception either.  Java terminates the application.</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BF2395-CDAB-49A2-A2D4-28E2B2809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14C306-7790-4245-B4E3-A5298B836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lose the connection to the client, rather than crash the serv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at we have added security requirements to the requirements documents of our information systems, let talk about how we should go about implementing mechanisms that enforce those security requirements.  Many organizations practice “security by obscurity.”  That is, they attempt to keep things secure by keeping them secret.  For example, companies keep many trade secrets, and sometimes don’t even tell their customers how their products work.  Military organizations only disseminate information to people on a “need to know” basis.  In both these cases, an organization is trying to keep information secure by hiding it from others.  While it is possible to achieve some level of security by hiding information, that is, through obscurity, it may not always make sense to assume that an attacker does not know how the system wor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one might assume that a user might not be able to understand how a program works because it is deployed as an executable binary file (i.e., a .exe file).  However, an attacker can easily disassemble, decompile, or reverse engineer the executable.  Also, the attacker could derive information about how the program functions simply by observing its behavior under normal conditions, and/or its behavior on inputs that the attacker selects.  (Can we come up with a simple example?) In addition to the technical approaches above, the attacker may also potentially be able to blackmail or coerce those that do know how the system works into disclosing details about how it work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conservative, we may therefore want to assume that the attacker knows exactly how the system to be attacked works. As such, we may want to avoid practicing security by obscurity if a better option exists.  In the following, we will talk about how it may be possible to build a secure system whose design could be public knowledge, where the security of the system does not depend upon hiding design details, but instead depends on certain “keys” being secret.  By “keys” we mean relatively short sequences of bits (i.e. 1024-bit keys).  It is usually much easier to keep a few “keys” secret compared to keeping all of the information about how a system functions secr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ing article about the topic at: http://news.com.com/2010-1071-980462.html?tag=fd_nc_1</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ssuming that the attacker knows how the system functions, and that the security of the system should be dependent upon a “key” goes back to Kerckhoffs’ doctrine in 1883.  We will see various algorithms whose details are completely public, yet secure in the next chapters on applied cryptography.  For now, just keep in mind that hiding the details of how your system works does not typically provide an acceptable level of security.  In fact, if the design of a system is not reviewed by a third-party, it is more likely than not that it will contain security holes that the original designer did not conceive of but that will be relatively obvious to third parties.  (This is true unless, of course, the original designer is an experienced, expert cryptograph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dea of not providing security through obscurity entails many rules of thumb that one should keep in mind when designing secure systems.  Here, we state a few such rules of thumbs, and examples of things that designers should stay away f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instanc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 designers should not attempt to “invent” their own algorithms for encryption.  Designing encryption algorithms is a tricky and challenging business that should be left to cryptographers.  If someone does decide to invent a new encryption algorithm, they should keep in mind that it will not be secure simply because no one else knows how it works.  A good cryptography can take advantage of modern cryptanalytic techniques to break the security of most ad-hoc developed encryption schemes.  If one does decide to attempt to invent a new encryption algorithm, the design of the algorithm should be reviewed by others, and should be reviewed by the community of cryptographers.  The security of a good encryption scheme should be dependent on well-chosen secret keys, not on the obscurity of the algorithm itself.  </a:t>
            </a:r>
            <a:br>
              <a:rPr sz="800"/>
            </a:br>
            <a:br>
              <a:rPr sz="800"/>
            </a:br>
            <a:r>
              <a:rPr b="0" lang="en-US" sz="800" spc="-1" strike="noStrike">
                <a:solidFill>
                  <a:srgbClr val="000000"/>
                </a:solidFill>
                <a:latin typeface="Arial"/>
              </a:rPr>
              <a:t>In addition, it is not recommended that one develop new implementations of existing encryption algorithms.  Coming up with new encryption algorithms that are secure is hard, and getting the implementation of a cryptographic algorithm (new or old) is just as hard.  A slight bug in the implementation of an encryption algorithm can be the door to a serious security hole.  There are many well-known implementations of encryption algorithms (we will cover some of these later in the course), and a system designer should opt to re-use an existing, tested implementation that has already been looked over and tested by many smart people.  While re-use of software is generally a good idea, it is an especially good idea when it comes to encryption and other cryptographic algorithm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rule of thumb that can be derived from the fact that security by obscurity is typically not good security is that one should not, whenever possible, attempt to embed secret keys in software.  Keep in mind that software is compiled into binary code, and can be disassembled, decompiled, and/or reverse engineered.  Secret keys will not stay secret simply because binary files are “hard to read.”  In fact, a good secret key is typically a random sequence of bits while binary code that contains machine instructions often have predictable patterns.  So, if you attempt to “hide” a secret key in a binary executable, it will probably exhibit more randomness (entropy) than the rest of the code.  As a result, an encryption key buried in a binary executable can be easily discerned if it is a good key (is a random sequence of bits), and is sufficiently long (another property of a good key).  So, the moral of the story is that secret keys should not be stored in program code if possibl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ure program will not attempt to achieve security by simply storing secret information in “hard to reach” places.  For instance, some programs attempt to protect secret information by storing it in the Windows Registry.  The Windows Registry is a part of the Windows operating system that applications can use to store configuration information.  Most users of Windows PCs do not know how to read the information in the registry, but hackers (attackers) certainly will.  A program that attempts to store a password in the Windows Registry in hopes of keeping the password secret is doomed to be hacked.  A hacker can simply run the “regedit” command on the Windows prompt or use the Windows API to read the password out of the registry.  So, if information is to be stored in the Windows Registry for security purposes, it should be encrypted.  Of course, based on our prior rule of thumb, the encryption key should not be stored in a susceptible location (such as the program that uses the key) either.  The encryption key should ideally be derived from password that the end-user does not write down anywhere, and only enters into the program that needs to use it whenever necessary.</a:t>
            </a:r>
            <a:endParaRPr b="0" lang="en-US" sz="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plethora of companies that need to secure their software that might are aware of the “security by obscurity” problem, and decide to make their software “open-source” in order to secure it.  When a company makes a piece of software “open-source,” it makes the source code available to the entire world for review.  They reason that if a piece of software can only be made secure by subjecting it to an open review process, then why not make it open to the entire world such that people can point out problems, and the company can simply fix it.  While the company might have good intensions, the company is making yet a more detailed set of assumptions if it believes that it can create more secure software by open-sourc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dditional assumption that the company would be making is that by open-sourcing its software, others would actually look at the source code of the software, and specifically would look at the sections of code that might lead to security flaws.  If the source code is hard to read, not very understandable, uninteresting, etc. the code will probably not be read at all.  In addition, if an open-source developer actually does look at the code, he or she might be interested in looking at a piece of the code whose functionality they are interested in modifying for their own purposes.  The open-source developer might want to change the GUI, or adapt some part of the functionality to serve a specific request that one of their customers might have.  Security may or may not be on the agenda of the open-source developer.  Finally, even if the open-source developer is interested in the security of the program, there is no assurance that he or she will actually report any security vulnerabilities to the author of the code.  The open-source “developer” may be malicious and may be looking to attack some deployed version of the software in question.  Due to all these reasons, the simple act of making a piece of software open-source will not automatically lead to an increase in its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keeping a piece of software proprietary (“closed-source”) does not ensure the security of a program either for all the reasons that we discussed when we talked about in the security by obscurity section.  Only releasing the binary code of an application does not hide much from the attacker, and the attacker can still exploit security holes by studying the behavior of the running program.  Even if a company keeps its code proprietary, it should be reviewed by security experts to look for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all means is that if you want to ensure the security of an application, you need to spend time reviewing the code for security vulnerabilities.  You can’t simply open-source it in the hopes that others will find security flaws for you, and you can’t hope that it will be secure just because you don’t release the source code.  You need to spend time reviewing the security of your application yourself if you indeed want it to be 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open-sourcing a piece of software, one might argue that they could be just making the hacker’s job a little easier.  This is possible, but a determined hacker doesn’t need to source code.  This does not contradict what we said when we talked about security by obscurity.  Hiding the source code of an application does not make it much harder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the decision to open-source a piece of software or keep it closed source should be a business decision.  Is open-sourcing or keeping the code proprietary more complementary with the business model under which the software is intended to generate re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discussion of this topic in “Building Secure Software” by John Viega and Gary McGraw.)</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thing to realize before embarking on the design of a secure system is that security can be viewed as a game of economics.  In fact, all systems can be considered to be insecure, and the real question becomes how insecure.  Specifically, the insecurity of an application can be measured by the expected cost that an attacker would need to spend to achieve his or her attack.  This expected cost can be made up of the amount of time the attacker needs to spend, the materials and technology that the attacker would need to acquire, and the risk that the attacker thinks he or she might get caught.  When we study applied cryptography in the next chapter, we will see that the amount of security that any particular cryptographic algorithm offers is partially a function of how many bits the secret key used with that algorithm is.  For each additional bit of data in the key, the amount of time that an attacker may have to spend to attack the algorithm is multiplied by two.  Another interesting question to look at from a security standpoint is: for every dollar that the attackee spends, how many dollars does the attacker need to spend?  While it is interesting to think about security in these terms, it is typically hard to come up with quantitative numbers to answer these types of questions.  Nevertheless, it is useful to pose these questions to help get our heads around the nature of the problem of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of the world where we consider all systems to be insecure, the next relevant question is what does it take to make sure that a system is “secure enough?”  We might define “secure enough” to mean that the expected cost to break into the system is much greater than the potential reward to be gained by the attacker.  If a system is “secure enough,” then there does not exist enough economic incentive for the attacker to break into the system.  In chapters 6 through 8 of this course, we will study a number of defenses that one can employ to make a system “secure enough” against an “average” hacker.  (Where average means that the attacker does not have any special vendettas or special rewards to break into you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is that security is about risk management.  How much technology does one need to employ to manage the risk that an attack might achieve its goals?  If no technology is employed, the risk that an attack will be successful will be high.  If some technology is employed, the risk that the “average” hacker will successfully mount an attack might be drastically reduced.  In a lot of technology is employed (and it is targeted at addressing the most relevant threats, and there aren’t any physical or policy-oriented holes, etc.) then it is likely that all but the most sophisticated hackers will be able to successfully mount an attack and the risk is low.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covered a number of high-level requirements that more secure systems strive to provide.  In this chapter, we will discuss a number of design principles that security architects typically keep in mind when building secure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1C4548-6E08-4DEC-B14A-0436472F5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A9BDB4-5A60-4668-A635-8651E0F1B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CCC6AF-669D-4218-BADE-3734B155C8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DCB736-A7CC-4F90-9FDD-D529EB5B7D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0777D-21C1-4CE3-9AB7-3054B898F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050D1-48F9-4352-99B3-AAC79F2E9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A7034-F3D2-4230-A0E6-B19872977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45F46-7C54-4EB9-BCF6-2C3DA3C26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0C5A6-29D0-4A98-BAC2-3FB88897A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7AD79-445C-4E00-A437-518F5AF07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8C456-6374-4503-A678-2E65C9C9A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8B1994-C5AA-4433-A5D7-C1006B3B6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D77BE-2451-483A-9B95-973643A1F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B21C1-BE41-41B6-A67A-2FC69C00E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523AE-FE10-44DE-A659-DEA1A4772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9F929-88AD-4F28-B18F-D860B16D9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EFB1A-30FB-43E9-99AA-62E47D452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6B4C36-3BDE-48C2-B7F9-596ED8926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63B260-BB66-4082-AF98-D90814EFB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043373-EBC4-452D-9A21-5615A0635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B4F78F-7918-4C81-A7B3-63C3017F0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42FC1E-20E6-4DA5-98CE-F17F115DF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FFBC28-C3AB-4995-B967-CB0D8F99C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007766-AF99-4599-A0AF-C97D3BE766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2D05-BC00-4F1C-972F-EBA6FE906F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E141-F507-47E3-BD99-E88F8AF6E4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2</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ecure Systems Design</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7. Denial of Service (Do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inundates server with packets causing it to drop legitimate packet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service unavailable, downtime = lost revenu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ly a threat for financial and e-commerce vend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utomated through botn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8. Data Theft and Data Los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Examples: BofA, ChoicePoint, V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fA: backup data tapes lost in trans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Point: fraudsters queried DB for sensitive inf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 employee took computer with personal info home &amp; his home was burglariz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laws require companies to disclose theft/lo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for encrypted data, should store key in separate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 Modeling</a:t>
            </a:r>
            <a:endParaRPr b="0" lang="en-US" sz="4400" spc="-1" strike="noStrike">
              <a:solidFill>
                <a:srgbClr val="000000"/>
              </a:solidFill>
              <a:latin typeface="Arial"/>
            </a:endParaRPr>
          </a:p>
        </p:txBody>
      </p:sp>
      <p:graphicFrame>
        <p:nvGraphicFramePr>
          <p:cNvPr id="138" name=""/>
          <p:cNvGraphicFramePr/>
          <p:nvPr/>
        </p:nvGraphicFramePr>
        <p:xfrm>
          <a:off x="685800" y="1828800"/>
          <a:ext cx="8001000" cy="4049640"/>
        </p:xfrm>
        <a:graphic>
          <a:graphicData uri="http://schemas.openxmlformats.org/drawingml/2006/table">
            <a:tbl>
              <a:tblPr/>
              <a:tblGrid>
                <a:gridCol w="3809880"/>
                <a:gridCol w="4191120"/>
              </a:tblGrid>
              <a:tr h="529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Significant Thre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1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Liberties web site</a:t>
                      </a:r>
                      <a:br>
                        <a:rPr sz="2800"/>
                      </a:br>
                      <a:r>
                        <a:rPr b="0" lang="en-US" sz="2800" spc="-1" strike="noStrike">
                          <a:solidFill>
                            <a:srgbClr val="000000"/>
                          </a:solidFill>
                          <a:latin typeface="Arial"/>
                        </a:rPr>
                        <a:t>White House web 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cem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stitu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e one or more account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al-of-Serv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Institu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ltration; access to classified d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 Designing-In Security</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features with security in min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an afterthough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add-on” security later</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concrete, measurable security goals. Ex:</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ertain users should be able to do X. Log ac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of feature Y should be encryp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Z should be available 99.9% of the ti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Examples: Windows 98,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1. Windows 98</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Mod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ed through 'F8' key when boot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ypass password protections, giving attacker complete access to hard disks &amp; data</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name/Password Security was added as an afterthough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been included at the start, then required it for entering diagnostic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2. The Internet</a:t>
            </a:r>
            <a:endParaRPr b="0" lang="en-US" sz="4400" spc="-1" strike="noStrike">
              <a:solidFill>
                <a:srgbClr val="000000"/>
              </a:solidFill>
              <a:latin typeface="Arial"/>
            </a:endParaRPr>
          </a:p>
        </p:txBody>
      </p:sp>
      <p:sp>
        <p:nvSpPr>
          <p:cNvPr id="144"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originally university or military (i.e. trusted) since it grew out of DARP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commercialization, lots of new hosts, all allowed to connect to existing hosts regardless of whether they were trus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loyed Firewalls: allows host to only let in trusted traffic</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holes: lying about IPs, using cleared 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 Whitelisting &amp; Spoof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P Whitelisting</a:t>
            </a:r>
            <a:r>
              <a:rPr b="0" lang="en-US" sz="2800" spc="-1" strike="noStrike">
                <a:solidFill>
                  <a:srgbClr val="000000"/>
                </a:solidFill>
                <a:latin typeface="Arial"/>
              </a:rPr>
              <a:t>: accepting communications only from hosts with certain IP addre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P Spoofing attack</a:t>
            </a:r>
            <a:r>
              <a:rPr b="0" lang="en-US" sz="2800" spc="-1" strike="noStrike">
                <a:solidFill>
                  <a:srgbClr val="000000"/>
                </a:solidFill>
                <a:latin typeface="Arial"/>
              </a:rPr>
              <a:t>: attacker mislabels (i.e. lies) source address on packets, slips past firewa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spoofing sent to host, not attack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communication rounds makes attack hard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DoS against legitimate host to prevent respons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 Spoofing &amp; Nonces</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nce</a:t>
            </a:r>
            <a:r>
              <a:rPr b="0" lang="en-US" sz="2800" spc="-1" strike="noStrike">
                <a:solidFill>
                  <a:srgbClr val="000000"/>
                </a:solidFill>
                <a:latin typeface="Arial"/>
              </a:rPr>
              <a:t>: one-time pseudo-random numb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hing a nonce to a reply and requesting it to be echoed back can guard against IP spoof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won’t know what reply to fak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ofing easier for non-connection-oriented protocols (e.g. UDP) than connection-oriented (e.g. TC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sequence #s should be random, o/w attacker can predict and inject packets into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3. Turtle Shell Architectures</a:t>
            </a:r>
            <a:endParaRPr b="0" lang="en-US" sz="4400" spc="-1" strike="noStrike">
              <a:solidFill>
                <a:srgbClr val="000000"/>
              </a:solidFill>
              <a:latin typeface="Arial"/>
            </a:endParaRPr>
          </a:p>
        </p:txBody>
      </p:sp>
      <p:sp>
        <p:nvSpPr>
          <p:cNvPr id="150"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ently insecure system protected by another system mediating access to i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Firewalls guard vulnerable systems withi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eath Star “strong outer defense” but vulnerabl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outer shell should not be sole defen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3. Convenience and Security</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rsely proportiona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ecure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Less conveni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Convenient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Less secur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oo inconvenient </a:t>
            </a:r>
            <a:r>
              <a:rPr b="0" lang="en-US" sz="2800" spc="-1" strike="noStrike">
                <a:solidFill>
                  <a:srgbClr val="000000"/>
                </a:solidFill>
                <a:latin typeface="Arial Unicode MS"/>
                <a:ea typeface="Arial Unicode MS"/>
              </a:rPr>
              <a:t>→</a:t>
            </a:r>
            <a:r>
              <a:rPr b="0" lang="en-US" sz="2800" spc="-1" strike="noStrike">
                <a:solidFill>
                  <a:srgbClr val="000000"/>
                </a:solidFill>
                <a:latin typeface="Arial"/>
              </a:rPr>
              <a:t> unusable </a:t>
            </a:r>
            <a:r>
              <a:rPr b="0" lang="en-US" sz="2800" spc="-1" strike="noStrike">
                <a:solidFill>
                  <a:srgbClr val="000000"/>
                </a:solidFill>
                <a:latin typeface="Arial Unicode MS"/>
                <a:ea typeface="Arial Unicode MS"/>
              </a:rPr>
              <a:t>→</a:t>
            </a:r>
            <a:r>
              <a:rPr b="0" lang="en-US" sz="2800" spc="-1" strike="noStrike">
                <a:solidFill>
                  <a:srgbClr val="000000"/>
                </a:solidFill>
                <a:latin typeface="Arial"/>
              </a:rPr>
              <a:t> users will workaround </a:t>
            </a:r>
            <a:r>
              <a:rPr b="0" lang="en-US" sz="2800" spc="-1" strike="noStrike">
                <a:solidFill>
                  <a:srgbClr val="000000"/>
                </a:solidFill>
                <a:latin typeface="Arial Unicode MS"/>
                <a:ea typeface="Arial Unicode MS"/>
              </a:rPr>
              <a:t>→</a:t>
            </a:r>
            <a:r>
              <a:rPr b="0" lang="en-US" sz="2800" spc="-1" strike="noStrike">
                <a:solidFill>
                  <a:srgbClr val="000000"/>
                </a:solidFill>
                <a:latin typeface="Arial"/>
              </a:rPr>
              <a:t> insecur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users may write down passw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technologies increase both: relative security benefit at only slight inconvenie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380880" y="1676520"/>
            <a:ext cx="82296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Threa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signing-In” Secur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 and Securi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By Obscur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vs. Closed Sour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me of Econom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 Simple Web Server (SWS)</a:t>
            </a:r>
            <a:endParaRPr b="0" lang="en-US" sz="4400" spc="-1" strike="noStrike">
              <a:solidFill>
                <a:srgbClr val="000000"/>
              </a:solidFill>
              <a:latin typeface="Arial"/>
            </a:endParaRPr>
          </a:p>
        </p:txBody>
      </p:sp>
      <p:sp>
        <p:nvSpPr>
          <p:cNvPr id="154" name="PlaceHolder 2"/>
          <p:cNvSpPr>
            <a:spLocks noGrp="1"/>
          </p:cNvSpPr>
          <p:nvPr>
            <p:ph/>
          </p:nvPr>
        </p:nvSpPr>
        <p:spPr>
          <a:xfrm>
            <a:off x="457200" y="1828440"/>
            <a:ext cx="8229600" cy="3994200"/>
          </a:xfrm>
          <a:prstGeom prst="rect">
            <a:avLst/>
          </a:prstGeom>
          <a:noFill/>
          <a:ln w="0">
            <a:noFill/>
          </a:ln>
        </p:spPr>
        <p:txBody>
          <a:bodyPr lIns="90000" rIns="90000" tIns="46800" bIns="46800" anchor="t">
            <a:normAutofit/>
          </a:bodyPr>
          <a:p>
            <a:pPr marL="339840" indent="-339840">
              <a:lnSpc>
                <a:spcPct val="90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 illustrate what can go wrong if we do not design for security in our web applications from the start, consider a simple web server implemented in Java.</a:t>
            </a:r>
            <a:endParaRPr b="0" lang="en-US" sz="2800" spc="-1" strike="noStrike">
              <a:solidFill>
                <a:srgbClr val="000000"/>
              </a:solidFill>
              <a:latin typeface="Arial"/>
            </a:endParaRPr>
          </a:p>
          <a:p>
            <a:pPr marL="33984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lnSpc>
                <a:spcPct val="90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nly serves documents using HTTP</a:t>
            </a:r>
            <a:endParaRPr b="0" lang="en-US" sz="2800" spc="-1" strike="noStrike">
              <a:solidFill>
                <a:srgbClr val="000000"/>
              </a:solidFill>
              <a:latin typeface="Arial"/>
            </a:endParaRPr>
          </a:p>
          <a:p>
            <a:pPr marL="33984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lnSpc>
                <a:spcPct val="90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Walkthrough the code in the following slides</a:t>
            </a:r>
            <a:endParaRPr b="0" lang="en-US" sz="28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26960"/>
            <a:ext cx="8232840" cy="1434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1. Hypertext Transfer Protocol (1)</a:t>
            </a:r>
            <a:endParaRPr b="0" lang="en-US" sz="4400" spc="-1" strike="noStrike">
              <a:solidFill>
                <a:srgbClr val="000000"/>
              </a:solidFill>
              <a:latin typeface="Arial"/>
            </a:endParaRPr>
          </a:p>
        </p:txBody>
      </p:sp>
      <p:sp>
        <p:nvSpPr>
          <p:cNvPr id="156" name="PlaceHolder 2"/>
          <p:cNvSpPr>
            <a:spLocks noGrp="1"/>
          </p:cNvSpPr>
          <p:nvPr>
            <p:ph/>
          </p:nvPr>
        </p:nvSpPr>
        <p:spPr>
          <a:xfrm>
            <a:off x="456840" y="1828440"/>
            <a:ext cx="7924680" cy="4290840"/>
          </a:xfrm>
          <a:prstGeom prst="rect">
            <a:avLst/>
          </a:prstGeom>
          <a:noFill/>
          <a:ln w="0">
            <a:noFill/>
          </a:ln>
        </p:spPr>
        <p:txBody>
          <a:bodyPr lIns="90000" rIns="90000" tIns="46800" bIns="46800" anchor="t">
            <a:normAutofit/>
          </a:bodyPr>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TTP is the communications protocol used to connect to servers on the Web</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imary function is to establish a connection with a server &amp; transmit HTML pages to client browsers or any other files required by an HTTP application.</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site addresses begin with an </a:t>
            </a:r>
            <a:r>
              <a:rPr b="1" lang="en-GB" sz="2800" spc="-1" strike="noStrike">
                <a:solidFill>
                  <a:srgbClr val="000000"/>
                </a:solidFill>
                <a:latin typeface="Arial"/>
              </a:rPr>
              <a:t>http://</a:t>
            </a:r>
            <a:r>
              <a:rPr b="0" lang="en-GB" sz="2800" spc="-1" strike="noStrike">
                <a:solidFill>
                  <a:srgbClr val="000000"/>
                </a:solidFill>
                <a:latin typeface="Arial"/>
              </a:rPr>
              <a:t> prefix.</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1. HTTP (2)</a:t>
            </a:r>
            <a:endParaRPr b="0" lang="en-US" sz="4400" spc="-1" strike="noStrike">
              <a:solidFill>
                <a:srgbClr val="000000"/>
              </a:solidFill>
              <a:latin typeface="Arial"/>
            </a:endParaRPr>
          </a:p>
        </p:txBody>
      </p:sp>
      <p:sp>
        <p:nvSpPr>
          <p:cNvPr id="158" name="PlaceHolder 2"/>
          <p:cNvSpPr>
            <a:spLocks noGrp="1"/>
          </p:cNvSpPr>
          <p:nvPr>
            <p:ph/>
          </p:nvPr>
        </p:nvSpPr>
        <p:spPr>
          <a:xfrm>
            <a:off x="456840" y="1980720"/>
            <a:ext cx="8232840" cy="4535640"/>
          </a:xfrm>
          <a:prstGeom prst="rect">
            <a:avLst/>
          </a:prstGeom>
          <a:noFill/>
          <a:ln w="0">
            <a:noFill/>
          </a:ln>
        </p:spPr>
        <p:txBody>
          <a:bodyPr lIns="90000" rIns="90000" tIns="46800" bIns="46800" anchor="t">
            <a:normAutofit/>
          </a:bodyPr>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typical HTTP request that a browser makes to a web server:</a:t>
            </a:r>
            <a:endParaRPr b="0" lang="en-US" sz="2800" spc="-1" strike="noStrike">
              <a:solidFill>
                <a:srgbClr val="000000"/>
              </a:solidFill>
              <a:latin typeface="Arial"/>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400" spc="-1" strike="noStrike">
                <a:solidFill>
                  <a:srgbClr val="000000"/>
                </a:solidFill>
                <a:latin typeface="Courier New"/>
              </a:rPr>
              <a:t>Get / HTTP/1.0</a:t>
            </a:r>
            <a:endParaRPr b="0" lang="en-US" sz="24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hen the server receives this request for filename / (the </a:t>
            </a:r>
            <a:r>
              <a:rPr b="0" i="1" lang="en-GB" sz="2800" spc="-1" strike="noStrike">
                <a:solidFill>
                  <a:srgbClr val="000000"/>
                </a:solidFill>
                <a:latin typeface="Arial"/>
              </a:rPr>
              <a:t>root</a:t>
            </a:r>
            <a:r>
              <a:rPr b="0" lang="en-GB" sz="2800" spc="-1" strike="noStrike">
                <a:solidFill>
                  <a:srgbClr val="000000"/>
                </a:solidFill>
                <a:latin typeface="Arial"/>
              </a:rPr>
              <a:t> document on the web server), it attempts to load </a:t>
            </a:r>
            <a:r>
              <a:rPr b="0" i="1" lang="en-GB" sz="2800" spc="-1" strike="noStrike">
                <a:solidFill>
                  <a:srgbClr val="000000"/>
                </a:solidFill>
                <a:latin typeface="Arial"/>
              </a:rPr>
              <a:t>index.html</a:t>
            </a:r>
            <a:r>
              <a:rPr b="0" lang="en-GB" sz="2800" spc="-1" strike="noStrike">
                <a:solidFill>
                  <a:srgbClr val="000000"/>
                </a:solidFill>
                <a:latin typeface="Arial"/>
              </a:rPr>
              <a:t>.  returns</a:t>
            </a:r>
            <a:endParaRPr b="0" lang="en-US" sz="2800" spc="-1" strike="noStrike">
              <a:solidFill>
                <a:srgbClr val="000000"/>
              </a:solidFill>
              <a:latin typeface="Arial"/>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400" spc="-1" strike="noStrike">
                <a:solidFill>
                  <a:srgbClr val="000000"/>
                </a:solidFill>
                <a:latin typeface="Courier New"/>
              </a:rPr>
              <a:t>HTTP/1.0 200 OK</a:t>
            </a:r>
            <a:endParaRPr b="0" lang="en-US" sz="2400" spc="-1" strike="noStrike">
              <a:solidFill>
                <a:srgbClr val="000000"/>
              </a:solidFill>
              <a:latin typeface="Arial"/>
            </a:endParaRPr>
          </a:p>
          <a:p>
            <a:pPr marL="339840" indent="0">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800" spc="-1" strike="noStrike">
                <a:solidFill>
                  <a:srgbClr val="000000"/>
                </a:solidFill>
                <a:latin typeface="Arial"/>
              </a:rPr>
              <a:t>followed by the document contents.</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main</a:t>
            </a:r>
            <a:endParaRPr b="0" lang="en-US" sz="4400" spc="-1" strike="noStrike">
              <a:solidFill>
                <a:srgbClr val="000000"/>
              </a:solidFill>
              <a:latin typeface="Arial"/>
            </a:endParaRPr>
          </a:p>
        </p:txBody>
      </p:sp>
      <p:sp>
        <p:nvSpPr>
          <p:cNvPr id="160" name="PlaceHolder 2"/>
          <p:cNvSpPr>
            <a:spLocks noGrp="1"/>
          </p:cNvSpPr>
          <p:nvPr>
            <p:ph/>
          </p:nvPr>
        </p:nvSpPr>
        <p:spPr>
          <a:xfrm>
            <a:off x="152280" y="2057400"/>
            <a:ext cx="8763120" cy="4063680"/>
          </a:xfrm>
          <a:prstGeom prst="rect">
            <a:avLst/>
          </a:prstGeom>
          <a:noFill/>
          <a:ln w="0">
            <a:noFill/>
          </a:ln>
        </p:spPr>
        <p:txBody>
          <a:bodyPr lIns="90000" rIns="90000" tIns="46800" bIns="46800" anchor="t">
            <a:normAutofit/>
          </a:bodyPr>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000" spc="-1" strike="noStrike">
                <a:solidFill>
                  <a:srgbClr val="000000"/>
                </a:solidFill>
                <a:latin typeface="Courier New"/>
              </a:rPr>
              <a:t>/* This method is called when the program is run from the command line.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public static void main (String argv[]) throws Exception {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Create a SimpleWebServer object, and run it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impleWebServer sws = new SimpleWebServer();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ws.run();                                             </a:t>
            </a:r>
            <a:endParaRPr b="0" lang="en-US" sz="2000" spc="-1" strike="noStrike">
              <a:solidFill>
                <a:srgbClr val="000000"/>
              </a:solidFill>
              <a:latin typeface="Arial"/>
            </a:endParaRPr>
          </a:p>
          <a:p>
            <a:pPr marL="33984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a:t>
            </a:r>
            <a:r>
              <a:rPr b="0" lang="en-GB" sz="2800" spc="-1" strike="noStrike">
                <a:solidFill>
                  <a:srgbClr val="000000"/>
                </a:solidFill>
                <a:latin typeface="Arial"/>
              </a:rPr>
              <a:t>                                                          </a:t>
            </a:r>
            <a:endParaRPr b="0" lang="en-US" sz="2800" spc="-1" strike="noStrike">
              <a:solidFill>
                <a:srgbClr val="000000"/>
              </a:solidFill>
              <a:latin typeface="Arial"/>
            </a:endParaRPr>
          </a:p>
          <a:p>
            <a:pPr marL="339840" indent="0">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impleWebServer Object</a:t>
            </a:r>
            <a:endParaRPr b="0" lang="en-US" sz="4400" spc="-1" strike="noStrike">
              <a:solidFill>
                <a:srgbClr val="000000"/>
              </a:solidFill>
              <a:latin typeface="Arial"/>
            </a:endParaRPr>
          </a:p>
        </p:txBody>
      </p:sp>
      <p:sp>
        <p:nvSpPr>
          <p:cNvPr id="162" name="PlaceHolder 2"/>
          <p:cNvSpPr>
            <a:spLocks noGrp="1"/>
          </p:cNvSpPr>
          <p:nvPr>
            <p:ph/>
          </p:nvPr>
        </p:nvSpPr>
        <p:spPr>
          <a:xfrm>
            <a:off x="457200" y="1676520"/>
            <a:ext cx="8229600" cy="498456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public class SimpleWebServer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Run the HTTP server on this TCP port.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rivate static final int PORT = 8080;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The socket used to process incoming connections</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from web clients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rivate static ServerSocket dServerSocke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SimpleWebServer () throws Exception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dServerSocket = new ServerSocket (POR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run() throws Exception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while (true)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wait for a connection from a clien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ocket s = dServerSocket.accep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then process the client's reques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processRequest(s);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processRequest (1)</a:t>
            </a:r>
            <a:endParaRPr b="0" lang="en-US" sz="4400" spc="-1" strike="noStrike">
              <a:solidFill>
                <a:srgbClr val="000000"/>
              </a:solidFill>
              <a:latin typeface="Arial"/>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Courier New"/>
              </a:rPr>
              <a:t>/* Reads the HTTP request from the client, and</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responds with the file the user requested or</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 HTTP error code.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processRequest(Socket s) throws Exception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used to read data from the client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BufferedReader br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new BufferedReader (new InputStreamReader (s.getInputStream()));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used to write data to the clien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OutputStreamWriter osw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new OutputStreamWriter (s.getOutputStream());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read the HTTP request from the clien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 request = br.readLine();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 command = null;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 pathname = null;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08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processRequest (2)</a:t>
            </a: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400" spc="-1" strike="noStrike">
                <a:solidFill>
                  <a:srgbClr val="000000"/>
                </a:solidFill>
                <a:latin typeface="Courier New"/>
              </a:rPr>
              <a:t>/* parse the HTTP reques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Tokenizer st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new StringTokenizer (request, "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command = st.nextToken();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pathname = st.nextToken();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if (command.equals("GET"))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if the request is a GET</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try to respond with the file</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the user is requesting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erveFile (osw,pathname);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else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if the request is a NOT a GET,</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return an error saying this server</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does not implement the requested command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osw.write ("HTTP/1.0 501 Not Implemented\n\n");</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close the connection to the clien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osw.close();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08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serveFile (1)</a:t>
            </a:r>
            <a:endParaRPr b="0" lang="en-US" sz="4400" spc="-1" strike="noStrike">
              <a:solidFill>
                <a:srgbClr val="000000"/>
              </a:solidFill>
              <a:latin typeface="Arial"/>
            </a:endParaRPr>
          </a:p>
        </p:txBody>
      </p:sp>
      <p:sp>
        <p:nvSpPr>
          <p:cNvPr id="168" name="PlaceHolder 2"/>
          <p:cNvSpPr>
            <a:spLocks noGrp="1"/>
          </p:cNvSpPr>
          <p:nvPr>
            <p:ph/>
          </p:nvPr>
        </p:nvSpPr>
        <p:spPr>
          <a:xfrm>
            <a:off x="456840" y="1752480"/>
            <a:ext cx="8232840" cy="4113360"/>
          </a:xfrm>
          <a:prstGeom prst="rect">
            <a:avLst/>
          </a:prstGeom>
          <a:noFill/>
          <a:ln w="0">
            <a:noFill/>
          </a:ln>
        </p:spPr>
        <p:txBody>
          <a:bodyPr lIns="90000" rIns="90000" tIns="46800" bIns="4680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void serveFile (OutputStreamWriter osw,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 pathname) throws Exception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FileReader fr=null;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nt c=-1;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Buffer sb = new StringBuffer();</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remove the initial slash at the beginning</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of the pathname in the request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f (pathname.charAt(0)=='/')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athname=pathname.substring(1);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if there was no filename specified by the</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client, serve the "index.html" file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f (pathname.equals(""))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athname="index.html"; </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08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serveFile (2)</a:t>
            </a:r>
            <a:endParaRPr b="0" lang="en-US" sz="4400" spc="-1" strike="noStrike">
              <a:solidFill>
                <a:srgbClr val="000000"/>
              </a:solidFill>
              <a:latin typeface="Arial"/>
            </a:endParaRPr>
          </a:p>
        </p:txBody>
      </p:sp>
      <p:sp>
        <p:nvSpPr>
          <p:cNvPr id="170" name="PlaceHolder 2"/>
          <p:cNvSpPr>
            <a:spLocks noGrp="1"/>
          </p:cNvSpPr>
          <p:nvPr>
            <p:ph/>
          </p:nvPr>
        </p:nvSpPr>
        <p:spPr>
          <a:xfrm>
            <a:off x="533520" y="2285640"/>
            <a:ext cx="8229600" cy="5421600"/>
          </a:xfrm>
          <a:prstGeom prst="rect">
            <a:avLst/>
          </a:prstGeom>
          <a:noFill/>
          <a:ln w="0">
            <a:noFill/>
          </a:ln>
        </p:spPr>
        <p:txBody>
          <a:bodyPr lIns="90000" rIns="90000" tIns="46800" bIns="46800" anchor="t">
            <a:normAutofit fontScale="99000"/>
          </a:bodyPr>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try to open file specified by pathname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ry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r = new FileReader (pathname);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c = fr.read();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catch (Exception e)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if the file is not found,return the</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ppropriate HTTP response code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osw.write ("HTTP/1.0 404 Not Found\n\n");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return;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r>
              <a:rPr b="0" lang="en-GB" sz="2000" spc="-1" strike="noStrike">
                <a:solidFill>
                  <a:srgbClr val="000000"/>
                </a:solidFill>
                <a:latin typeface="Arial"/>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6368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serveFile (3)</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6176880"/>
          </a:xfrm>
          <a:prstGeom prst="rect">
            <a:avLst/>
          </a:prstGeom>
          <a:noFill/>
          <a:ln w="0">
            <a:noFill/>
          </a:ln>
        </p:spPr>
        <p:txBody>
          <a:bodyPr lIns="90000" rIns="90000" tIns="46800" bIns="46800" anchor="t">
            <a:normAutofit/>
          </a:bodyPr>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Arial"/>
              </a:rPr>
              <a:t>	</a:t>
            </a:r>
            <a:r>
              <a:rPr b="0" lang="en-GB" sz="2800" spc="-1" strike="noStrike">
                <a:solidFill>
                  <a:srgbClr val="000000"/>
                </a:solidFill>
                <a:latin typeface="Courier New"/>
              </a:rPr>
              <a:t>/* if the requested file can be successfully opened and read, then return an OK response code and send the contents of the file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osw.write ("HTTP/1.0 200 OK\n\n");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while (c != -1) {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sb.append((char)c);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c = fr.read();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osw.write (sb.toString());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 Understanding Threat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 &amp; Mitigate Threa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ce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ltr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sh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der Threa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Frau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al of Servic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eft/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 Security in Software Requirement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ust, consistent error handling</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reqs w/ QA team</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internal errors securely – don’t provide error messages to potential attacker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and Fraud Check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curity or Bust”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1. Specifying Error Handling Requirements</a:t>
            </a:r>
            <a:endParaRPr b="0" lang="en-US" sz="4400" spc="-1" strike="noStrike">
              <a:solidFill>
                <a:srgbClr val="000000"/>
              </a:solidFill>
              <a:latin typeface="Arial"/>
            </a:endParaRPr>
          </a:p>
        </p:txBody>
      </p:sp>
      <p:sp>
        <p:nvSpPr>
          <p:cNvPr id="176"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ilities often due to bad error handl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DoS on SWS – makes it unavail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Just send a carriage return as the first message instead of a properly formatted GET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es exception when breaking into toke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5.1. DoS on SWS Example</a:t>
            </a:r>
            <a:endParaRPr b="0" lang="en-US" sz="4400" spc="-1" strike="noStrike">
              <a:solidFill>
                <a:srgbClr val="000000"/>
              </a:solidFill>
              <a:latin typeface="Arial"/>
            </a:endParaRPr>
          </a:p>
        </p:txBody>
      </p:sp>
      <p:sp>
        <p:nvSpPr>
          <p:cNvPr id="178" name="PlaceHolder 2"/>
          <p:cNvSpPr>
            <a:spLocks noGrp="1"/>
          </p:cNvSpPr>
          <p:nvPr>
            <p:ph/>
          </p:nvPr>
        </p:nvSpPr>
        <p:spPr>
          <a:xfrm>
            <a:off x="457200" y="1676160"/>
            <a:ext cx="8229600" cy="5478120"/>
          </a:xfrm>
          <a:prstGeom prst="rect">
            <a:avLst/>
          </a:prstGeom>
          <a:noFill/>
          <a:ln w="0">
            <a:noFill/>
          </a:ln>
        </p:spPr>
        <p:txBody>
          <a:bodyPr lIns="90000" rIns="90000" tIns="46800" bIns="46800" anchor="t">
            <a:normAutofit fontScale="99000"/>
          </a:bodyPr>
          <a:p>
            <a:pPr marL="336240" indent="0">
              <a:lnSpc>
                <a:spcPct val="8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processRequest(): </a:t>
            </a:r>
            <a:endParaRPr b="0" lang="en-US" sz="2400" spc="-1" strike="noStrike">
              <a:solidFill>
                <a:srgbClr val="000000"/>
              </a:solidFill>
              <a:latin typeface="Arial"/>
            </a:endParaRPr>
          </a:p>
          <a:p>
            <a:pPr marL="336240" indent="0">
              <a:lnSpc>
                <a:spcPct val="8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read the HTTP request from the clien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000000"/>
                </a:solidFill>
                <a:latin typeface="Courier New"/>
              </a:rPr>
              <a:t>String request = br.readLine();</a:t>
            </a:r>
            <a:r>
              <a:rPr b="0" lang="en-GB" sz="2000" spc="-1" strike="noStrike">
                <a:solidFill>
                  <a:srgbClr val="000000"/>
                </a:solidFill>
                <a:latin typeface="Courier New"/>
              </a:rPr>
              <a:t> // empty string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tring command = null;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tring pathname = null;</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parse the HTTP reques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tringTokenizer st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new StringTokenizer (request, "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000000"/>
                </a:solidFill>
                <a:latin typeface="Courier New"/>
              </a:rPr>
              <a:t>command = st.nextToken();</a:t>
            </a:r>
            <a:r>
              <a:rPr b="0" lang="en-GB" sz="2000" spc="-1" strike="noStrike">
                <a:solidFill>
                  <a:srgbClr val="000000"/>
                </a:solidFill>
                <a:latin typeface="Courier New"/>
              </a:rPr>
              <a:t> // EXCEPTION: no tokens!</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 SERVER CRASHES HERE – DENIAL OF SERVICE! */</a:t>
            </a: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athname = st.nextToken();</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5.1. How Do We Fix This?</a:t>
            </a:r>
            <a:endParaRPr b="0" lang="en-US" sz="4400" spc="-1" strike="noStrike">
              <a:solidFill>
                <a:srgbClr val="000000"/>
              </a:solidFill>
              <a:latin typeface="Arial"/>
            </a:endParaRPr>
          </a:p>
        </p:txBody>
      </p:sp>
      <p:sp>
        <p:nvSpPr>
          <p:cNvPr id="180" name="PlaceHolder 2"/>
          <p:cNvSpPr>
            <a:spLocks noGrp="1"/>
          </p:cNvSpPr>
          <p:nvPr>
            <p:ph/>
          </p:nvPr>
        </p:nvSpPr>
        <p:spPr>
          <a:xfrm>
            <a:off x="380520" y="1676520"/>
            <a:ext cx="8232840" cy="4289040"/>
          </a:xfrm>
          <a:prstGeom prst="rect">
            <a:avLst/>
          </a:prstGeom>
          <a:noFill/>
          <a:ln w="0">
            <a:noFill/>
          </a:ln>
        </p:spPr>
        <p:txBody>
          <a:bodyPr lIns="90000" rIns="90000" tIns="46800" bIns="46800" anchor="t">
            <a:normAutofit/>
          </a:bodyPr>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2800" spc="-1" strike="noStrike">
                <a:solidFill>
                  <a:srgbClr val="000000"/>
                </a:solidFill>
                <a:latin typeface="Arial"/>
              </a:rPr>
              <a:t>The web server should immediately disconnect from any web client that sends a malformed HTTP request to the server.</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he programmer needs to carefully handle exceptions to deal with malformed requests.</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olution: Surround susceptible String Tokenizing code with try/catch block.</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5.1. Try/Catch Solution</a:t>
            </a:r>
            <a:endParaRPr b="0" lang="en-US" sz="4400" spc="-1" strike="noStrike">
              <a:solidFill>
                <a:srgbClr val="000000"/>
              </a:solidFill>
              <a:latin typeface="Arial"/>
            </a:endParaRPr>
          </a:p>
        </p:txBody>
      </p:sp>
      <p:sp>
        <p:nvSpPr>
          <p:cNvPr id="182" name="PlaceHolder 2"/>
          <p:cNvSpPr>
            <a:spLocks noGrp="1"/>
          </p:cNvSpPr>
          <p:nvPr>
            <p:ph/>
          </p:nvPr>
        </p:nvSpPr>
        <p:spPr>
          <a:xfrm>
            <a:off x="380880" y="1752480"/>
            <a:ext cx="8229600" cy="4460400"/>
          </a:xfrm>
          <a:prstGeom prst="rect">
            <a:avLst/>
          </a:prstGeom>
          <a:noFill/>
          <a:ln w="0">
            <a:noFill/>
          </a:ln>
        </p:spPr>
        <p:txBody>
          <a:bodyPr lIns="90000" rIns="90000" tIns="46800" bIns="46800" anchor="t">
            <a:normAutofit/>
          </a:bodyPr>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read the HTTP request from the client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 request = br.readLine();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 command = null;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 pathname = null;</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try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parse the HTTP request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Tokenizer st =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new StringTokenizer (request, " ");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command = st.nextToken();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pathname = st.nextToken();</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catch (Exception e)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osw.write (“HTTP/1.0 400 Bad Request\n\n”);</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osw.close();</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2. Sharing Requirements with Quality Assurance (QA)</a:t>
            </a:r>
            <a:endParaRPr b="0" lang="en-US" sz="4400" spc="-1" strike="noStrike">
              <a:solidFill>
                <a:srgbClr val="000000"/>
              </a:solidFill>
              <a:latin typeface="Arial"/>
            </a:endParaRPr>
          </a:p>
        </p:txBody>
      </p:sp>
      <p:sp>
        <p:nvSpPr>
          <p:cNvPr id="18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ev &amp; testers should get requir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test cases for security too: Does it malfunction when provided bad inpu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ing-of-Death</a:t>
            </a:r>
            <a:r>
              <a:rPr b="0" lang="en-US" sz="2800" spc="-1" strike="noStrike">
                <a:solidFill>
                  <a:srgbClr val="000000"/>
                </a:solidFill>
                <a:latin typeface="Arial"/>
              </a:rPr>
              <a:t>: sending a packet of data can cause server to crash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oS attack on SimpleWebServ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Nokia GGSN crashes on packet with TCP option field set to </a:t>
            </a:r>
            <a:r>
              <a:rPr b="0" lang="en-US" sz="2400" spc="-1" strike="noStrike">
                <a:solidFill>
                  <a:srgbClr val="000000"/>
                </a:solidFill>
                <a:latin typeface="Courier New"/>
              </a:rPr>
              <a:t>0x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3. Handling Internal Errors Securely</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rror messages and observable behavior can tip off an attacker to vulnerab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Fault Injection</a:t>
            </a:r>
            <a:r>
              <a:rPr b="0" lang="en-GB" sz="2800" spc="-1" strike="noStrike">
                <a:solidFill>
                  <a:srgbClr val="000000"/>
                </a:solidFill>
                <a:latin typeface="Arial"/>
              </a:rPr>
              <a:t>: Providing a program with input that it does not expect (as in the DoS attack against SimpleWebServer) and observing its behavi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Ethical” hackers often hired to find such bu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4. Including Validation and Fraud Checks</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should specify which error cases &amp; threats to hand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Examp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 10 Checksum</a:t>
            </a:r>
            <a:r>
              <a:rPr b="0" lang="en-US" sz="2400" spc="-1" strike="noStrike">
                <a:solidFill>
                  <a:srgbClr val="000000"/>
                </a:solidFill>
                <a:latin typeface="Arial"/>
              </a:rPr>
              <a:t>: ensures validity of number, to catch user typ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C: guards against fraudsters who have stolen # but don’t know the CVC</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Credit Card Check might be too cos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5. Writing Measurable Security Requirements</a:t>
            </a:r>
            <a:endParaRPr b="0" lang="en-US" sz="4400" spc="-1" strike="noStrike">
              <a:solidFill>
                <a:srgbClr val="000000"/>
              </a:solidFill>
              <a:latin typeface="Arial"/>
            </a:endParaRPr>
          </a:p>
        </p:txBody>
      </p:sp>
      <p:sp>
        <p:nvSpPr>
          <p:cNvPr id="190" name="PlaceHolder 2"/>
          <p:cNvSpPr>
            <a:spLocks noGrp="1"/>
          </p:cNvSpPr>
          <p:nvPr>
            <p:ph/>
          </p:nvPr>
        </p:nvSpPr>
        <p:spPr>
          <a:xfrm>
            <a:off x="457200" y="2133720"/>
            <a:ext cx="8229600" cy="4572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Control Security: Only certain users can do certain fun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ing: Maintain log of users’ sensitive a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 encrypt certain functions’ outpu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ertain features should be available almost alwa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these requirements in design doc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6. Security or Bust</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not ship code unless its sec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 gained by launching earlier could be lost due to vulnerabilities that tarnish brand and lead to lost revenu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Microsoft delayed ship of .NET server in ’02 because security requirements not met by “code freeze” dead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1. Defacement</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Vandalism, attackers replace legitimate pages with illegitimate o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towards political web si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White House website defaced by anti-NATO activists, Chinese hac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 Security by Obscurity</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be secure by hiding how systems and products work (to prevent info from being used by attack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Military uses Need to Know ba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necessary, but not sufficient to prevent determined attac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1. Flaws in the Approach</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ssumptions to make about adversary?</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s algorithms? Or not?</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s in “binary” secret?</a:t>
            </a:r>
            <a:endParaRPr b="0" lang="en-US" sz="24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s can probe for weaknesses</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engineer exes</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 behavior in normal vs. aberrant conds. (use </a:t>
            </a:r>
            <a:r>
              <a:rPr b="0" i="1" lang="en-US" sz="2400" spc="-1" strike="noStrike">
                <a:solidFill>
                  <a:srgbClr val="000000"/>
                </a:solidFill>
                <a:latin typeface="Arial"/>
              </a:rPr>
              <a:t>fault injection</a:t>
            </a:r>
            <a:r>
              <a:rPr b="0" lang="en-US" sz="2400" spc="-1" strike="noStrike">
                <a:solidFill>
                  <a:srgbClr val="000000"/>
                </a:solidFill>
                <a:latin typeface="Arial"/>
              </a:rPr>
              <a:t>)</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uzzing</a:t>
            </a:r>
            <a:r>
              <a:rPr b="0" lang="en-US" sz="2400" spc="-1" strike="noStrike">
                <a:solidFill>
                  <a:srgbClr val="000000"/>
                </a:solidFill>
                <a:latin typeface="Arial"/>
              </a:rPr>
              <a:t>: systematically trying different input strings to find an exploit</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mail insi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ret Keys</a:t>
            </a:r>
            <a:endParaRPr b="0" lang="en-US" sz="4400" spc="-1" strike="noStrike">
              <a:solidFill>
                <a:srgbClr val="000000"/>
              </a:solidFill>
              <a:latin typeface="Arial"/>
            </a:endParaRPr>
          </a:p>
        </p:txBody>
      </p:sp>
      <p:sp>
        <p:nvSpPr>
          <p:cNvPr id="198" name="PlaceHolder 2"/>
          <p:cNvSpPr>
            <a:spLocks noGrp="1"/>
          </p:cNvSpPr>
          <p:nvPr>
            <p:ph/>
          </p:nvPr>
        </p:nvSpPr>
        <p:spPr>
          <a:xfrm>
            <a:off x="457200" y="1981080"/>
            <a:ext cx="830592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rckhoffs’ doctrine</a:t>
            </a:r>
            <a:r>
              <a:rPr b="0" lang="en-US" sz="2800" spc="-1" strike="noStrike">
                <a:solidFill>
                  <a:srgbClr val="000000"/>
                </a:solidFill>
                <a:latin typeface="Arial"/>
              </a:rPr>
              <a:t> (1883): “The method used to encipher data is known to the opponent, and that security must lie in the choice of ke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worst cas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curity alone is not suffici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ed key can be changed without re-designing syste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s easier to keep secr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2. SWS Obscurity</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distributing Java bytecode of SWS (and not source code) not enough secu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disassembled or decompiled (e.g. Mocha, Jad) to produce rough source co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disassembling can reveal the DoS exploit of the vulnerable tokenization pro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2. Disassembling SWS</a:t>
            </a:r>
            <a:endParaRPr b="0" lang="en-US" sz="4400" spc="-1" strike="noStrike">
              <a:solidFill>
                <a:srgbClr val="000000"/>
              </a:solidFill>
              <a:latin typeface="Arial"/>
            </a:endParaRPr>
          </a:p>
        </p:txBody>
      </p:sp>
      <p:sp>
        <p:nvSpPr>
          <p:cNvPr id="202" name=""/>
          <p:cNvSpPr/>
          <p:nvPr/>
        </p:nvSpPr>
        <p:spPr>
          <a:xfrm>
            <a:off x="380880" y="1447920"/>
            <a:ext cx="495324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processRequest(java.net.So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rows java/lang/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 new 25; //class 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 new 26; //class InputStream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 aload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 invokevirtual 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 invokespecial 2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5: invokespecial 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8: astore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9: new 30; //class OutputStreamWri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2: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3: aload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4: invokevirtual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7: invokespecial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0: astore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1: aload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2: invokevirtual 3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5: astore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7: aconst_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8: astore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0: aconst_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1: astore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
          <p:cNvSpPr/>
          <p:nvPr/>
        </p:nvSpPr>
        <p:spPr>
          <a:xfrm>
            <a:off x="5105520" y="1447920"/>
            <a:ext cx="403848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3: new 34; //class StringTokeniz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6: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7: aload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9: ldc 35; //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1: invokespecial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 astore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6: aload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8: invokevirtual 3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1: astore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3: aload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5: invokevirtual 3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8: astore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0: aload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2: ldc 38; //String G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4: invokevirtual 3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7: ifeq 9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0: aload_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1: aload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2: aload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4: invokevirtual 4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7: go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0: aload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1: ldc 4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3: invokevirtual 4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 goto 101</a:t>
            </a:r>
            <a:endParaRPr b="0" lang="en-US" sz="1400" spc="-1" strike="noStrike">
              <a:solidFill>
                <a:srgbClr val="000000"/>
              </a:solidFill>
              <a:latin typeface="Arial"/>
            </a:endParaRPr>
          </a:p>
        </p:txBody>
      </p:sp>
      <p:sp>
        <p:nvSpPr>
          <p:cNvPr id="204" name=""/>
          <p:cNvSpPr/>
          <p:nvPr/>
        </p:nvSpPr>
        <p:spPr>
          <a:xfrm>
            <a:off x="2514600" y="5915160"/>
            <a:ext cx="2590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9: astore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1: aload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2: invokevirtual 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5: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3. Things to Avoid</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invent” your own encryption algorith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embed keys in softwa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 in Windows Registry which is readable by all</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orget Code Reuse: reuse well-tested software known to be reliably secure instead of doing same thing from scrat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7. Open vs. Closed Source</a:t>
            </a: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open-source software secure?”</a:t>
            </a:r>
            <a:endParaRPr b="0" lang="en-US" sz="28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a:t>
            </a:r>
            <a:endParaRPr b="0" lang="en-US" sz="28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might look at security of your application (if they care)</a:t>
            </a:r>
            <a:endParaRPr b="0" lang="en-US" sz="24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or may not tell you what they find</a:t>
            </a:r>
            <a:endParaRPr b="0" lang="en-US" sz="24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a:t>
            </a:r>
            <a:endParaRPr b="0" lang="en-US" sz="28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making code available does not hide much</a:t>
            </a:r>
            <a:endParaRPr b="0" lang="en-US" sz="24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diverse security-aware code reviews</a:t>
            </a:r>
            <a:endParaRPr b="0" lang="en-US" sz="24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siness decision: Not a security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8. A Game of Economics</a:t>
            </a:r>
            <a:endParaRPr b="0" lang="en-US" sz="4400" spc="-1" strike="noStrike">
              <a:solidFill>
                <a:srgbClr val="000000"/>
              </a:solidFill>
              <a:latin typeface="Arial"/>
            </a:endParaRPr>
          </a:p>
        </p:txBody>
      </p:sp>
      <p:sp>
        <p:nvSpPr>
          <p:cNvPr id="210"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fontScale="79000"/>
          </a:bodyPr>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ystems insecure: how insecure?</a:t>
            </a: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to break system? Weakest link?</a:t>
            </a:r>
            <a:endParaRPr b="0" lang="en-US" sz="28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ery $ that defender spends, how many $ does attacker have to spend?</a:t>
            </a: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st to “break” system &gt;&gt; </a:t>
            </a:r>
            <a:br>
              <a:rPr sz="2800"/>
            </a:br>
            <a:r>
              <a:rPr b="0" lang="en-US" sz="2800" spc="-1" strike="noStrike">
                <a:solidFill>
                  <a:srgbClr val="000000"/>
                </a:solidFill>
                <a:latin typeface="Arial"/>
              </a:rPr>
              <a:t>    Reward to be gained) </a:t>
            </a:r>
            <a:endParaRPr b="0" lang="en-US" sz="2800" spc="-1" strike="noStrike">
              <a:solidFill>
                <a:srgbClr val="000000"/>
              </a:solidFill>
              <a:latin typeface="Arial"/>
            </a:endParaRPr>
          </a:p>
          <a:p>
            <a:pPr lvl="1" marL="586800" indent="-2257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ystem is secure</a:t>
            </a:r>
            <a:endParaRPr b="0" lang="en-US" sz="2400" spc="-1" strike="noStrike">
              <a:solidFill>
                <a:srgbClr val="000000"/>
              </a:solidFill>
              <a:latin typeface="Arial"/>
            </a:endParaRPr>
          </a:p>
          <a:p>
            <a:pPr lvl="1" marL="586800" indent="-2257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system is NOT secure</a:t>
            </a:r>
            <a:endParaRPr b="0" lang="en-US" sz="24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aise the bar” high enough</a:t>
            </a: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 about </a:t>
            </a:r>
            <a:r>
              <a:rPr b="1" lang="en-US" sz="2800" spc="-1" strike="noStrike">
                <a:solidFill>
                  <a:srgbClr val="000000"/>
                </a:solidFill>
                <a:latin typeface="Arial"/>
              </a:rPr>
              <a:t>risk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8. Economics Example</a:t>
            </a:r>
            <a:endParaRPr b="0" lang="en-US" sz="4400" spc="-1" strike="noStrike">
              <a:solidFill>
                <a:srgbClr val="000000"/>
              </a:solidFill>
              <a:latin typeface="Arial"/>
            </a:endParaRPr>
          </a:p>
        </p:txBody>
      </p:sp>
      <p:sp>
        <p:nvSpPr>
          <p:cNvPr id="212"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ays to break system with </a:t>
            </a:r>
            <a:r>
              <a:rPr b="0" i="1" lang="en-US" sz="2800" spc="-1" strike="noStrike">
                <a:solidFill>
                  <a:srgbClr val="000000"/>
                </a:solidFill>
                <a:latin typeface="Arial"/>
              </a:rPr>
              <a:t>L</a:t>
            </a:r>
            <a:r>
              <a:rPr b="0" lang="en-US" sz="2800" spc="-1" strike="noStrike">
                <a:solidFill>
                  <a:srgbClr val="000000"/>
                </a:solidFill>
                <a:latin typeface="Arial"/>
              </a:rPr>
              <a:t>-bit key</a:t>
            </a:r>
            <a:endParaRPr b="0" lang="en-US" sz="28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te-force search for key: costs </a:t>
            </a:r>
            <a:r>
              <a:rPr b="0" i="1" lang="en-US" sz="2400" spc="-1" strike="noStrike">
                <a:solidFill>
                  <a:srgbClr val="000000"/>
                </a:solidFill>
                <a:latin typeface="Arial"/>
              </a:rPr>
              <a:t>C</a:t>
            </a:r>
            <a:r>
              <a:rPr b="0" lang="en-US" sz="2400" spc="-1" strike="noStrike">
                <a:solidFill>
                  <a:srgbClr val="000000"/>
                </a:solidFill>
                <a:latin typeface="Arial"/>
              </a:rPr>
              <a:t> cents/try </a:t>
            </a:r>
            <a:endParaRPr b="0" lang="en-US" sz="24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ayoff” employee (earning </a:t>
            </a:r>
            <a:r>
              <a:rPr b="0" i="1" lang="en-US" sz="2400" spc="-1" strike="noStrike">
                <a:solidFill>
                  <a:srgbClr val="000000"/>
                </a:solidFill>
                <a:latin typeface="Arial"/>
              </a:rPr>
              <a:t>S</a:t>
            </a:r>
            <a:r>
              <a:rPr b="0" lang="en-US" sz="2400" spc="-1" strike="noStrike">
                <a:solidFill>
                  <a:srgbClr val="000000"/>
                </a:solidFill>
                <a:latin typeface="Arial"/>
              </a:rPr>
              <a:t> yearly for </a:t>
            </a:r>
            <a:r>
              <a:rPr b="0" i="1" lang="en-US" sz="2400" spc="-1" strike="noStrike">
                <a:solidFill>
                  <a:srgbClr val="000000"/>
                </a:solidFill>
                <a:latin typeface="Arial"/>
              </a:rPr>
              <a:t>Y</a:t>
            </a:r>
            <a:r>
              <a:rPr b="0" lang="en-US" sz="2400" spc="-1" strike="noStrike">
                <a:solidFill>
                  <a:srgbClr val="000000"/>
                </a:solidFill>
                <a:latin typeface="Arial"/>
              </a:rPr>
              <a:t> years, interest </a:t>
            </a:r>
            <a:r>
              <a:rPr b="0" i="1" lang="en-US" sz="2400" spc="-1" strike="noStrike">
                <a:solidFill>
                  <a:srgbClr val="000000"/>
                </a:solidFill>
                <a:latin typeface="Symbol"/>
                <a:ea typeface="Symbol"/>
              </a:rPr>
              <a:t></a:t>
            </a:r>
            <a:r>
              <a:rPr b="0" lang="en-US" sz="2400" spc="-1" strike="noStrike">
                <a:solidFill>
                  <a:srgbClr val="000000"/>
                </a:solidFill>
                <a:latin typeface="Arial"/>
              </a:rPr>
              <a:t>) for the key: costs </a:t>
            </a:r>
            <a:r>
              <a:rPr b="0" i="1" lang="en-US" sz="2400" spc="-1" strike="noStrike">
                <a:solidFill>
                  <a:srgbClr val="000000"/>
                </a:solidFill>
                <a:latin typeface="Arial"/>
              </a:rPr>
              <a:t>P =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i=0</a:t>
            </a:r>
            <a:r>
              <a:rPr b="0" i="1" lang="en-US" sz="2400" spc="-1" strike="noStrike" baseline="30000">
                <a:solidFill>
                  <a:srgbClr val="000000"/>
                </a:solidFill>
                <a:latin typeface="Arial"/>
              </a:rPr>
              <a:t>Y</a:t>
            </a:r>
            <a:r>
              <a:rPr b="0" i="1" lang="en-US" sz="2400" spc="-1" strike="noStrike">
                <a:solidFill>
                  <a:srgbClr val="000000"/>
                </a:solidFill>
                <a:latin typeface="Arial"/>
              </a:rPr>
              <a:t> S</a:t>
            </a:r>
            <a:r>
              <a:rPr b="0" i="1" lang="en-US" sz="2400" spc="-1" strike="noStrike">
                <a:solidFill>
                  <a:srgbClr val="000000"/>
                </a:solidFill>
                <a:latin typeface="Symbol"/>
                <a:ea typeface="Symbol"/>
              </a:rPr>
              <a:t></a:t>
            </a:r>
            <a:r>
              <a:rPr b="0" i="1" lang="en-US" sz="2400" spc="-1" strike="noStrike" baseline="30000">
                <a:solidFill>
                  <a:srgbClr val="000000"/>
                </a:solidFill>
                <a:latin typeface="Arial"/>
              </a:rPr>
              <a:t>Y-i </a:t>
            </a:r>
            <a:r>
              <a:rPr b="0" lang="en-US" sz="2400" spc="-1" strike="noStrike">
                <a:solidFill>
                  <a:srgbClr val="000000"/>
                </a:solidFill>
                <a:latin typeface="Arial"/>
              </a:rPr>
              <a:t>dollars</a:t>
            </a:r>
            <a:endParaRPr b="0" lang="en-US" sz="24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te-Force Total Cost:</a:t>
            </a:r>
            <a:endParaRPr b="0" lang="en-US" sz="28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verage, try half the keys</a:t>
            </a:r>
            <a:endParaRPr b="0" lang="en-US" sz="24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st = (C/2)(2</a:t>
            </a:r>
            <a:r>
              <a:rPr b="0" i="1" lang="en-US" sz="2400" spc="-1" strike="noStrike" baseline="30000">
                <a:solidFill>
                  <a:srgbClr val="000000"/>
                </a:solidFill>
                <a:latin typeface="Arial"/>
              </a:rPr>
              <a:t>L</a:t>
            </a:r>
            <a:r>
              <a:rPr b="0" i="1" lang="en-US" sz="2400" spc="-1" strike="noStrike">
                <a:solidFill>
                  <a:srgbClr val="000000"/>
                </a:solidFill>
                <a:latin typeface="Arial"/>
              </a:rPr>
              <a:t>) = 2</a:t>
            </a:r>
            <a:r>
              <a:rPr b="0" i="1" lang="en-US" sz="2400" spc="-1" strike="noStrike" baseline="30000">
                <a:solidFill>
                  <a:srgbClr val="000000"/>
                </a:solidFill>
                <a:latin typeface="Arial"/>
              </a:rPr>
              <a:t>L-1</a:t>
            </a:r>
            <a:r>
              <a:rPr b="0" i="1" lang="en-US" sz="2400" spc="-1" strike="noStrike">
                <a:solidFill>
                  <a:srgbClr val="000000"/>
                </a:solidFill>
                <a:latin typeface="Arial"/>
              </a:rPr>
              <a:t>C</a:t>
            </a:r>
            <a:endParaRPr b="0" lang="en-US" sz="24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ay P=$5 million, L=64, C=3.4e-11, brute-force cost is &gt; $300 million (better to payoff)</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 </a:t>
            </a:r>
            <a:r>
              <a:rPr b="0" i="1" lang="en-US" sz="2800" spc="-1" strike="noStrike">
                <a:solidFill>
                  <a:srgbClr val="000000"/>
                </a:solidFill>
                <a:latin typeface="Arial"/>
              </a:rPr>
              <a:t>2</a:t>
            </a:r>
            <a:r>
              <a:rPr b="0" i="1" lang="en-US" sz="2800" spc="-1" strike="noStrike" baseline="30000">
                <a:solidFill>
                  <a:srgbClr val="000000"/>
                </a:solidFill>
                <a:latin typeface="Arial"/>
              </a:rPr>
              <a:t>L-1</a:t>
            </a:r>
            <a:r>
              <a:rPr b="0" i="1" lang="en-US" sz="2800" spc="-1" strike="noStrike">
                <a:solidFill>
                  <a:srgbClr val="000000"/>
                </a:solidFill>
                <a:latin typeface="Arial"/>
              </a:rPr>
              <a:t>C =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i=0</a:t>
            </a:r>
            <a:r>
              <a:rPr b="0" i="1" lang="en-US" sz="2800" spc="-1" strike="noStrike" baseline="30000">
                <a:solidFill>
                  <a:srgbClr val="000000"/>
                </a:solidFill>
                <a:latin typeface="Arial"/>
              </a:rPr>
              <a:t>Y</a:t>
            </a:r>
            <a:r>
              <a:rPr b="0" i="1" lang="en-US" sz="2800" spc="-1" strike="noStrike">
                <a:solidFill>
                  <a:srgbClr val="000000"/>
                </a:solidFill>
                <a:latin typeface="Arial"/>
              </a:rPr>
              <a:t> S</a:t>
            </a:r>
            <a:r>
              <a:rPr b="0" i="1" lang="en-US" sz="2800" spc="-1" strike="noStrike">
                <a:solidFill>
                  <a:srgbClr val="000000"/>
                </a:solidFill>
                <a:latin typeface="Symbol"/>
                <a:ea typeface="Symbol"/>
              </a:rPr>
              <a:t></a:t>
            </a:r>
            <a:r>
              <a:rPr b="0" i="1" lang="en-US" sz="2800" spc="-1" strike="noStrike" baseline="30000">
                <a:solidFill>
                  <a:srgbClr val="000000"/>
                </a:solidFill>
                <a:latin typeface="Arial"/>
              </a:rPr>
              <a:t>Y-i</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9. “Good Enough” Security</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 Version: security should be good enough</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t have much to protect y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predict types of threa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till set up a basic security framework, “hook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a Version: throw away alph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in security to deal with threats discovered during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Infiltration</a:t>
            </a:r>
            <a:endParaRPr b="0" lang="en-US" sz="4400" spc="-1" strike="noStrike">
              <a:solidFill>
                <a:srgbClr val="000000"/>
              </a:solidFill>
              <a:latin typeface="Arial"/>
            </a:endParaRPr>
          </a:p>
        </p:txBody>
      </p:sp>
      <p:sp>
        <p:nvSpPr>
          <p:cNvPr id="12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uthorized parties gain access to resources of computer system (e.g. CPUs, disk, network bandwid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gain read/write access to back-end DB</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attacker’s writes can be detect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goals for different organization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site only needs integrity of data</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ite needs integrity &amp; confidenti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6" name="PlaceHolder 2"/>
          <p:cNvSpPr>
            <a:spLocks noGrp="1"/>
          </p:cNvSpPr>
          <p:nvPr>
            <p:ph/>
          </p:nvPr>
        </p:nvSpPr>
        <p:spPr>
          <a:xfrm>
            <a:off x="456840" y="1980720"/>
            <a:ext cx="8062920" cy="4343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s (DoS, Phishing, Infiltration, Frau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WebServer: Security by Obscurity Fai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 Game (cost &gt;&gt; reward for attack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ood Enough” Security: Design Incrementally From Begin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3. Phishing</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sets up spoofed site that looks real</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res users to enter login credentials and stores the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ent through an e-mail with link to spoofed site asking users to “verify” their account inf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ks might be disguised through the click tex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y users can see actual URL if they hover over link</a:t>
            </a:r>
            <a:endParaRPr b="0" lang="en-US" sz="2400" spc="-1" strike="noStrike">
              <a:solidFill>
                <a:srgbClr val="000000"/>
              </a:solidFill>
              <a:latin typeface="Arial"/>
            </a:endParaRPr>
          </a:p>
        </p:txBody>
      </p:sp>
      <p:pic>
        <p:nvPicPr>
          <p:cNvPr id="125" name="" descr=""/>
          <p:cNvPicPr/>
          <p:nvPr/>
        </p:nvPicPr>
        <p:blipFill>
          <a:blip r:embed="rId1"/>
          <a:stretch/>
        </p:blipFill>
        <p:spPr>
          <a:xfrm>
            <a:off x="533520" y="4724280"/>
            <a:ext cx="4876560" cy="839880"/>
          </a:xfrm>
          <a:prstGeom prst="rect">
            <a:avLst/>
          </a:prstGeom>
          <a:ln w="0">
            <a:noFill/>
          </a:ln>
        </p:spPr>
      </p:pic>
      <p:pic>
        <p:nvPicPr>
          <p:cNvPr id="126" name="" descr=""/>
          <p:cNvPicPr/>
          <p:nvPr/>
        </p:nvPicPr>
        <p:blipFill>
          <a:blip r:embed="rId2"/>
          <a:stretch/>
        </p:blipFill>
        <p:spPr>
          <a:xfrm>
            <a:off x="4876920" y="5105520"/>
            <a:ext cx="3429000" cy="148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Pharming</a:t>
            </a:r>
            <a:endParaRPr b="0" lang="en-US" sz="4400" spc="-1" strike="noStrike">
              <a:solidFill>
                <a:srgbClr val="000000"/>
              </a:solidFill>
              <a:latin typeface="Arial"/>
            </a:endParaRPr>
          </a:p>
        </p:txBody>
      </p:sp>
      <p:sp>
        <p:nvSpPr>
          <p:cNvPr id="12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hishing, attacker’s goal is to get user to enter sensitive data into spoofed websi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NS Cache Poisoning</a:t>
            </a:r>
            <a:r>
              <a:rPr b="0" lang="en-US" sz="2800" spc="-1" strike="noStrike">
                <a:solidFill>
                  <a:srgbClr val="000000"/>
                </a:solidFill>
                <a:latin typeface="Arial"/>
              </a:rPr>
              <a:t> – attacker is able to redirect legitimate URL to their spoofed si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S translates URL to appropriate IP add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makes DNS translate legitimate URL to their IP address instead and the result gets cached, poisoning future replies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Insider Threat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s carried out with cooperation of insid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rs could have access to data and leak 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B and Sys Admins usually get complete acce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paration of Privilege / Least Privilege Princip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dividuals with only enough privileges needed to complete their tas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give unrestricted access to all data an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6. Click Fraud</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against pay-per-click a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ould click on competitor’s ad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etes other’s ad budgets, gains exclusive attention of legitimate user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 publishers could click on ads to get reven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through malware such as botn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7:55:49Z</dcterms:modified>
  <cp:revision>2822</cp:revision>
  <dc:subject/>
  <dc:title>Chapter2</dc:title>
</cp:coreProperties>
</file>